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9CF-F06C-46FB-926B-B0071C14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C1A-CF35-4BAF-A7ED-74FC11D2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74D-2DA4-499D-A35C-B7A04C34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E25-BF70-4C6D-B113-C1AFF49D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9B1-E70B-493A-828B-EC206837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959-1FF5-4512-92AE-47FB44DC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640-CDD3-4040-BD10-ED25A7B7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FDE-CF6C-4C0F-82E7-CE5CE56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686-F632-46DB-B26A-DAA954AA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FD9-AD1C-425D-A744-1405F78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891-35EB-4505-AAD3-6A055C6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1EF-9070-40E0-92F1-AC61E989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7099-32DC-4FCD-B829-501C4B0B1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ri Vaughn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Program Files\Microsoft Office\MEDIA\CAGCAT10\j0332364.wmf"/>
          <p:cNvPicPr/>
          <p:nvPr/>
        </p:nvPicPr>
        <p:blipFill>
          <a:blip r:embed="rId1"/>
          <a:stretch/>
        </p:blipFill>
        <p:spPr>
          <a:xfrm>
            <a:off x="3124080" y="2209680"/>
            <a:ext cx="49863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of prayer and stu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t0.gstatic.com/images?q=tbn:ANd9GcSmmW_-sTA8kUkhq2rmLSX_6IIzkXVkz38jDdJQlj3PKk_pJL044w"/>
          <p:cNvPicPr/>
          <p:nvPr/>
        </p:nvPicPr>
        <p:blipFill>
          <a:blip r:embed="rId1"/>
          <a:stretch/>
        </p:blipFill>
        <p:spPr>
          <a:xfrm>
            <a:off x="1143000" y="1295280"/>
            <a:ext cx="7162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 months at a time, affecting the cl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://t3.gstatic.com/images?q=tbn:ANd9GcQMZJh9jcPHa6lpboiZ6DLSUbU6G7o-2AyUiJ827AGhEE8l9kNU4g"/>
          <p:cNvPicPr/>
          <p:nvPr/>
        </p:nvPicPr>
        <p:blipFill>
          <a:blip r:embed="rId1"/>
          <a:stretch/>
        </p:blipFill>
        <p:spPr>
          <a:xfrm>
            <a:off x="1447920" y="2057400"/>
            <a:ext cx="6413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,  burlap bags, etc…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http://t2.gstatic.com/images?q=tbn:ANd9GcTLYvETaE7J8EPfSPXdxY3nbiKxvli3dr_wPg_1pHdB2tDhXIHQwQ"/>
          <p:cNvPicPr/>
          <p:nvPr/>
        </p:nvPicPr>
        <p:blipFill>
          <a:blip r:embed="rId1"/>
          <a:stretch/>
        </p:blipFill>
        <p:spPr>
          <a:xfrm>
            <a:off x="1066680" y="144792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 or village based industry where family members make their own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t0.gstatic.com/images?q=tbn:ANd9GcTqAWg5_cDLzv-i1WoLMKYkkDLYsjTvYYc7CC9NKq6POFKONulgng"/>
          <p:cNvPicPr/>
          <p:nvPr/>
        </p:nvPicPr>
        <p:blipFill>
          <a:blip r:embed="rId1"/>
          <a:stretch/>
        </p:blipFill>
        <p:spPr>
          <a:xfrm>
            <a:off x="1905120" y="2286000"/>
            <a:ext cx="54100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ttp://t3.gstatic.com/images?q=tbn:ANd9GcTl1T2FajUIWHhBVtHfckFKgKNP8RDfuWiCi96l8PAKL-2cytJQrw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birth of a person ‘s  soul in a  new body after dea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://t2.gstatic.com/images?q=tbn:ANd9GcQlRlRHzKcbjEzpMEnwTPq5XBA9D3HBaYCV9k947UjZenQnaT-G"/>
          <p:cNvPicPr/>
          <p:nvPr/>
        </p:nvPicPr>
        <p:blipFill>
          <a:blip r:embed="rId1"/>
          <a:stretch/>
        </p:blipFill>
        <p:spPr>
          <a:xfrm>
            <a:off x="220968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t3.gstatic.com/images?q=tbn:ANd9GcTu7SmFp1b9eZ-TCgJ47EITVlsr7xlV4HpaWRptE7BsY4jNHKtM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-destroying insec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http://t0.gstatic.com/images?q=tbn:ANd9GcS45NfN3ma1K7cu9fho4yXu5tZlnOAdcEvDT0DCRIAgNXtqridUMg"/>
          <p:cNvPicPr/>
          <p:nvPr/>
        </p:nvPicPr>
        <p:blipFill>
          <a:blip r:embed="rId1"/>
          <a:stretch/>
        </p:blipFill>
        <p:spPr>
          <a:xfrm>
            <a:off x="1066680" y="1600200"/>
            <a:ext cx="655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9:53Z</dcterms:modified>
  <cp:revision>10</cp:revision>
  <dc:subject/>
  <dc:title>Chapter 5 – India Vocabulary</dc:title>
</cp:coreProperties>
</file>